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11DE-89A4-47C0-8341-C05B85017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A5BF-EF66-43D2-B021-890A8411C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9845-C4D8-463F-B5A7-496845C37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3D10-8D59-41C9-BB7F-9857FFCDB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2056-97BC-4667-9ECF-6E8F63FAC5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2073-E19F-4E41-86B1-9042E6D23D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161E-B79D-475B-A147-4BB8C5FD58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FBA4-CE2E-4D8E-B55D-08BF23A217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3F86-DD24-47F6-8E79-58BA8047B2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726A-9362-4A9C-A514-08538B2A6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7286-2B23-4696-B5C6-B853E34C7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35AF-1008-4FED-BA62-E675124D1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D573-A4CE-41F7-8B51-CEC2E0795D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9106-E56B-4A94-BCD7-9366849D55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A2EA-D308-4D99-92C2-8F58EC77E7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16BC-F435-404D-BEB5-85717E13D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6C4D-2208-404E-9FEE-B4B4C41E2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62BB-5AF0-4D3A-B7E9-F46D22382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9AC3-D862-4D7D-A233-3D28597F1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E414-3FDD-467C-A8D2-FAD3152D8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08FE-9D59-42E7-A25A-1629C4827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0C4B-6BCD-43BD-A0BF-3F22F010C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6D58-5A98-4782-A731-EFFC9C661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F422-9E90-4745-A340-3B1BBD535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8BAD-85F5-49C6-A842-BD4B75EE78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8612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C76-E0CE-4D9D-8672-5533B89C9B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6415.wikispaces.com/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yourdon.com/strucanalysis/wiki/index.php?title=Introduction" TargetMode="External"/><Relationship Id="rId4" Type="http://schemas.openxmlformats.org/officeDocument/2006/relationships/hyperlink" Target="http://www.gliffy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66400"/>
            <a:ext cx="609588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82280" y="4076640"/>
            <a:ext cx="586116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23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96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September 3rd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38224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4:30-6:00; Tuesday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743200"/>
            <a:ext cx="38224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ornik</dc:creator>
  <dc:description/>
  <dc:language>en-US</dc:language>
  <cp:lastModifiedBy/>
  <cp:revision>0</cp:revision>
  <dc:subject/>
  <dc:title>ACG 5405 Intro</dc:title>
</cp:coreProperties>
</file>